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4A9-01F4-4CB3-8F8E-189FC2FA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D297-F70B-43FE-A74F-7F988306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385-AF0B-4BFF-8E5F-FCE08040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A50-68CD-426A-810E-C2F043DC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25C1-73C2-4C5C-B7DC-0595D6AE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1F69-AF57-457C-A3F5-6A21B0CD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5E40-72D1-4C54-8376-E3CA9B5B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302C-E431-40A4-8490-13CDE2D1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A733-6F99-42CC-8472-D39721C4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6E56-9196-41FA-8903-9FFE2ACB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FFA6-1335-4EE7-80C6-27144F9E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DB7-C791-44D8-B0B0-8CBAF6AC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C502-1197-420F-B9FD-1E3A83CC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0B4A-C9C3-41F7-BE72-0A745C30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CB28-E697-40B2-BE57-D281A49D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7F34-3D79-4DE5-8419-35D8BB62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B3E7-82AA-42F1-BD00-C2A5BFB5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BED-2AA4-4262-AD38-7221647A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B34-135A-4D5D-9671-331AD641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AC4-9FE0-4A1E-8A8C-7C4036E8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57B-51B8-4201-BD9E-4F821A4F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8AF-7F70-4AC1-BF3E-F6763FBE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379-21B7-4454-85C6-F7E5FFD4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17E-0364-4488-AE27-8B456D7A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164F-D070-4434-87C5-282505BF7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0ED5-43D0-47C3-8E8D-4A60B2988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ONCEPTO.ppt" TargetMode="External"/><Relationship Id="rId2" Type="http://schemas.openxmlformats.org/officeDocument/2006/relationships/hyperlink" Target="file:///BENEFICIARIOS.ppt" TargetMode="External"/><Relationship Id="rId3" Type="http://schemas.openxmlformats.org/officeDocument/2006/relationships/hyperlink" Target="file:///REGIMENES.ppt" TargetMode="External"/><Relationship Id="rId4" Type="http://schemas.openxmlformats.org/officeDocument/2006/relationships/hyperlink" Target="file:///AFILIACI&#211;N,%20ALTAS%20Y%20BAJAS.ppt" TargetMode="External"/><Relationship Id="rId5" Type="http://schemas.openxmlformats.org/officeDocument/2006/relationships/hyperlink" Target="file:///PRESTACIONES.ppt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Comic Sans MS"/>
              </a:rPr>
              <a:t>LA SEGURIDAD SOCI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0033"/>
                </a:solidFill>
                <a:uFillTx/>
                <a:latin typeface="Comic Sans MS"/>
                <a:hlinkClick r:id="rId1"/>
              </a:rPr>
              <a:t>Concep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0033"/>
                </a:solidFill>
                <a:uFillTx/>
                <a:latin typeface="Comic Sans MS"/>
                <a:hlinkClick r:id="rId2"/>
              </a:rPr>
              <a:t>Beneficiarios/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0033"/>
                </a:solidFill>
                <a:uFillTx/>
                <a:latin typeface="Comic Sans MS"/>
                <a:hlinkClick r:id="rId3"/>
              </a:rPr>
              <a:t>Regímenes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0033"/>
                </a:solidFill>
                <a:uFillTx/>
                <a:latin typeface="Comic Sans MS"/>
                <a:hlinkClick r:id="rId4"/>
              </a:rPr>
              <a:t>Afiliación, Altas y Baj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0033"/>
                </a:solidFill>
                <a:uFillTx/>
                <a:latin typeface="Comic Sans MS"/>
                <a:hlinkClick r:id="rId5"/>
              </a:rPr>
              <a:t>Prest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Comic Sans MS"/>
              </a:rPr>
              <a:t>CONCEPT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L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Comic Sans MS"/>
              </a:rPr>
              <a:t>Seguridad Social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 es un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Comic Sans MS"/>
              </a:rPr>
              <a:t>sistema público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 cuyo objeto es l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Comic Sans MS"/>
              </a:rPr>
              <a:t>protección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 de las personas incluidas en su campo de aplicación y los familiares a su cargo,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Comic Sans MS"/>
              </a:rPr>
              <a:t>frente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 determinados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Comic Sans MS"/>
              </a:rPr>
              <a:t>riesgos o contingencias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 que les ocasionan situaciones de neces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Comic Sans MS"/>
              </a:rPr>
              <a:t>BENEFICIARIOS/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Todos/as los/as ciudadanos/as españoles/as que residan y ejerzan su actividad en el territorio nacional, así como las personas extranjeras que se encuentren trabajando legalmente en España y que, tanto los unos como los otros, estén incluidos en los siguientes grup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Trabajadores/as por cuenta aje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Trabajadores/as por cuenta prop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Socios/as trabajadores/as de coopera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Empleados/as del hog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Estudi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Funcionarios/as públicos, civiles y milita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Comic Sans MS"/>
              </a:rPr>
              <a:t>REGIME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GENER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Es el que establece una serie de medidas a favor de los/as trabajadores/as por </a:t>
            </a: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cuenta aje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ESPECI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Trabajadores/as Autónomos/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Empleados/as de hog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Trabajadores/as del 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Funcionarios/as Públicos, civiles y milit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Estudia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Trabajadores/as agrícolas, forestares y pecuari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Comic Sans MS"/>
              </a:rPr>
              <a:t>AFILIACIÓN, ALTAS Y BAJ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FILIACIÓN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: Acto por el que las persona se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Comic Sans MS"/>
              </a:rPr>
              <a:t>incorporan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al sistema de la Seguridad Social. Es única para toda la vida del trabajador/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LTAS: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Cada vez que el trabajador/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Comic Sans MS"/>
              </a:rPr>
              <a:t>inicie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una nueva actividad laboral debe ser dado de alta en la S.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BAJAS: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Cuando el trabajador/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Comic Sans MS"/>
              </a:rPr>
              <a:t>cese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u actividad laboral debe ser dado de ba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Comic Sans MS"/>
              </a:rPr>
              <a:t>PRESTAC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capacidad Tempo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tern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capacidad Perman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Jubi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uerte y Superviv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sempl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ntribu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sist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48:59Z</dcterms:created>
  <dc:creator>-</dc:creator>
  <dc:description/>
  <dc:language>en-US</dc:language>
  <cp:lastModifiedBy>Profesor</cp:lastModifiedBy>
  <dcterms:modified xsi:type="dcterms:W3CDTF">2008-02-19T09:12:19Z</dcterms:modified>
  <cp:revision>7</cp:revision>
  <dc:subject/>
  <dc:title>LA SEGURIDAD SOCIAL</dc:title>
</cp:coreProperties>
</file>